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ADB-023F-49F8-9E46-EA6A5245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943-0237-4220-9911-7FFEFEB8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360-8AAF-444F-A5BF-9B7D5A90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486-E8CC-4160-9AE5-7B69A601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2AED8-543D-4C5A-B4A0-F10B5EF5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522EB-3E5F-4A36-BF9F-705F1EC0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2D60A-44C9-41F9-8A14-2B694CAC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C914A-BC5C-436E-8014-F480A2BA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A3934-6725-4404-8096-92515C10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6D92D-2118-49AD-AF4C-189707C7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3DA82-EB18-47C8-9227-BFA3166D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4A2-F61F-4A73-931D-896660E0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05401-6354-45FA-9410-50BEA24A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3BF7F-6593-4062-94A2-7F55F5A2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3C067-FE66-4D93-9AFF-DA50E976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27CA3-1739-4267-94F5-5BB6C3E9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9D35E-3C01-413F-BD71-96FBCC2D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5F4-DDDB-4722-AE32-54FC23BF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9BD-261A-4822-97CC-CB8DCDD0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DDE-4438-49DA-A926-DFACF883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BA9-70CE-4078-A12A-59BC0606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38E-BC4A-4264-A832-480C69D9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9D46-883F-424C-84B3-ED506496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EA5-355F-4F21-B88C-B4A1675B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5F3B-7F42-40E6-98B5-41A5CAD58F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43B2-1498-41A8-8501-8DD475B0FA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aramétrer le format des nombr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556000" y="515772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rice graphique CAS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68320" cy="3473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00360" y="2708280"/>
            <a:ext cx="5421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Faites les différentes actions au fur et à mesure de la proj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936360" cy="765360"/>
          </a:xfrm>
          <a:custGeom>
            <a:avLst/>
            <a:gdLst>
              <a:gd name="textAreaLeft" fmla="*/ 49320 w 936360"/>
              <a:gd name="textAreaRight" fmla="*/ 887040 w 936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5" y="3794"/>
                </a:moveTo>
                <a:lnTo>
                  <a:pt x="20218" y="10800"/>
                </a:lnTo>
                <a:lnTo>
                  <a:pt x="620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1-Allumez votre calculatric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920" y="134136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’écran suivant apparaî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68320" cy="347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59280" y="2276640"/>
            <a:ext cx="4983120" cy="2533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743200" y="51577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cez le mod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6360" y="2421000"/>
            <a:ext cx="1296720" cy="1081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924360" y="3429000"/>
            <a:ext cx="1800000" cy="1728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936360" cy="765360"/>
          </a:xfrm>
          <a:custGeom>
            <a:avLst/>
            <a:gdLst>
              <a:gd name="textAreaLeft" fmla="*/ 49320 w 936360"/>
              <a:gd name="textAreaRight" fmla="*/ 887040 w 936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5" y="3794"/>
                </a:moveTo>
                <a:lnTo>
                  <a:pt x="20218" y="10800"/>
                </a:lnTo>
                <a:lnTo>
                  <a:pt x="620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404280"/>
            <a:ext cx="6588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Votre calculatrice est prête à effectuer des calcul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68320" cy="347328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936360" cy="765360"/>
          </a:xfrm>
          <a:custGeom>
            <a:avLst/>
            <a:gdLst>
              <a:gd name="textAreaLeft" fmla="*/ 49320 w 936360"/>
              <a:gd name="textAreaRight" fmla="*/ 887040 w 936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5" y="3794"/>
                </a:moveTo>
                <a:lnTo>
                  <a:pt x="20218" y="10800"/>
                </a:lnTo>
                <a:lnTo>
                  <a:pt x="620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2997360"/>
            <a:ext cx="65880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Mais il faut définir le format d’affichag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DISPLA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2- Accéder à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DISPLA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faut activer l’écran de configuration en cliquant su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68320" cy="347328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936360" cy="765360"/>
          </a:xfrm>
          <a:custGeom>
            <a:avLst/>
            <a:gdLst>
              <a:gd name="textAreaLeft" fmla="*/ 49320 w 936360"/>
              <a:gd name="textAreaRight" fmla="*/ 887040 w 936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5" y="3794"/>
                </a:moveTo>
                <a:lnTo>
                  <a:pt x="20218" y="10800"/>
                </a:lnTo>
                <a:lnTo>
                  <a:pt x="620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564000" y="3860640"/>
            <a:ext cx="3672000" cy="1668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708360" y="3141720"/>
            <a:ext cx="216000" cy="1008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39280" y="3141720"/>
            <a:ext cx="3095640" cy="93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997360"/>
            <a:ext cx="361800" cy="11509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258920" y="2997360"/>
            <a:ext cx="5184720" cy="10792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940360" y="2349360"/>
            <a:ext cx="1008000" cy="633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059280" y="2565360"/>
            <a:ext cx="10080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2- Accéder à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DISPLA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’écran suivant apparaî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68320" cy="347328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936360" cy="765360"/>
          </a:xfrm>
          <a:custGeom>
            <a:avLst/>
            <a:gdLst>
              <a:gd name="textAreaLeft" fmla="*/ 49320 w 936360"/>
              <a:gd name="textAreaRight" fmla="*/ 887040 w 936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5" y="3794"/>
                </a:moveTo>
                <a:lnTo>
                  <a:pt x="20218" y="10800"/>
                </a:lnTo>
                <a:lnTo>
                  <a:pt x="620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600720" cy="3297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003640" y="3716280"/>
            <a:ext cx="1225800" cy="503280"/>
          </a:xfrm>
          <a:prstGeom prst="ellipse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2781360"/>
            <a:ext cx="216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Pour faire apparaîtr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ISPLAY</a:t>
            </a: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, utilisez les flèches du pavé directi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692360" y="4220640"/>
            <a:ext cx="1295280" cy="792360"/>
          </a:xfrm>
          <a:prstGeom prst="line">
            <a:avLst/>
          </a:prstGeom>
          <a:ln w="5724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3- Paramétrer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DISPLA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23640" y="134136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ivant l’activité que vous avez à faire, vous sélectionnerez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68320" cy="3473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003640" y="3716280"/>
            <a:ext cx="1225800" cy="503280"/>
          </a:xfrm>
          <a:prstGeom prst="ellipse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220500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I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cc"/>
                </a:solidFill>
                <a:latin typeface="Times New Roman"/>
              </a:rPr>
              <a:t>pour définir le nombre de chiffre après la virgule (arrond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342900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pour définir l’écriture scientifique d’un nomb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4581360"/>
            <a:ext cx="66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our écrire un nombre en notation ingéni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740720" y="5589720"/>
            <a:ext cx="1008000" cy="1008000"/>
          </a:xfrm>
          <a:custGeom>
            <a:avLst/>
            <a:gdLst>
              <a:gd name="textAreaLeft" fmla="*/ 65160 w 1008000"/>
              <a:gd name="textAreaRight" fmla="*/ 942840 w 1008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20:23:13Z</dcterms:created>
  <dc:creator>LUCOTTE-LE VISAGE Gwenaëlle</dc:creator>
  <dc:description/>
  <dc:language>en-US</dc:language>
  <cp:lastModifiedBy>LUCOTTE-LE VISAGE Gwenaëlle</cp:lastModifiedBy>
  <dcterms:modified xsi:type="dcterms:W3CDTF">2004-11-15T21:50:43Z</dcterms:modified>
  <cp:revision>10</cp:revision>
  <dc:subject/>
  <dc:title>Paramétrer le format des nombres</dc:title>
</cp:coreProperties>
</file>